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AutoShape 1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2"/>
          <p:cNvSpPr/>
          <p:nvPr/>
        </p:nvSpPr>
        <p:spPr>
          <a:xfrm>
            <a:off x="0" y="0"/>
            <a:ext cx="6761160" cy="9942480"/>
          </a:xfrm>
          <a:custGeom>
            <a:avLst/>
            <a:gdLst>
              <a:gd name="textAreaLeft" fmla="*/ 360 w 6761160"/>
              <a:gd name="textAreaRight" fmla="*/ 6760800 w 6761160"/>
              <a:gd name="textAreaTop" fmla="*/ 360 h 9942480"/>
              <a:gd name="textAreaBottom" fmla="*/ 9942120 h 9942480"/>
            </a:gdLst>
            <a:ahLst/>
            <a:rect l="textAreaLeft" t="textAreaTop" r="textAreaRight" b="textAreaBottom"/>
            <a:pathLst>
              <a:path w="21600" h="31763">
                <a:moveTo>
                  <a:pt x="5" y="0"/>
                </a:moveTo>
                <a:arcTo wR="5" hR="5" stAng="16200000" swAng="-5400000"/>
                <a:lnTo>
                  <a:pt x="0" y="31758"/>
                </a:lnTo>
                <a:arcTo wR="5" hR="5" stAng="10800000" swAng="-5400000"/>
                <a:lnTo>
                  <a:pt x="21595" y="3176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dt" idx="25"/>
          </p:nvPr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ldImg"/>
          </p:nvPr>
        </p:nvSpPr>
        <p:spPr>
          <a:xfrm>
            <a:off x="895320" y="745920"/>
            <a:ext cx="4967280" cy="3725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body"/>
          </p:nvPr>
        </p:nvSpPr>
        <p:spPr>
          <a:xfrm>
            <a:off x="676080" y="4722840"/>
            <a:ext cx="540540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9443880"/>
            <a:ext cx="2930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sldNum" idx="26"/>
          </p:nvPr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55F6C-F464-4DD7-AF20-6A329B826D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480BD-22AD-40A9-83B1-611AB08D79C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33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BD7CA-A400-4BF0-AB74-166746E409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2F5E5-2752-497F-925B-CFDCF8DC99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55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12BB3-03F4-4D19-AF5D-D59A13BB0D3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58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959AF-8FFB-4A1A-B04C-66C4AC026BD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61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3FAA2-2A43-4759-9CBE-A46B13A98DA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64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53AED-0747-407E-ADD4-ACC650F7486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67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8DF4E-92EA-48BA-AC53-BD86B101492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7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938AE-41A4-4BE5-9570-C13E2F32E9E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37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95071-13AB-49D2-831F-F666EBA71CD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40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6080" y="4722840"/>
            <a:ext cx="540540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Номер слайда 3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E09F00-1604-4EFD-ADD9-366D495771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9522C-950D-4ECA-9C33-6E1498491F9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46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EB99E-2C34-457D-AF2B-2D90F4CEC26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49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>
            <a:off x="3828960" y="9443880"/>
            <a:ext cx="29275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CC4C7-6D91-43B6-BF4C-752375D732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752" name="Text Box 2"/>
          <p:cNvSpPr/>
          <p:nvPr/>
        </p:nvSpPr>
        <p:spPr>
          <a:xfrm>
            <a:off x="676440" y="4722840"/>
            <a:ext cx="540828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4EB0C-1567-4AC9-960C-F66AE75510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B112-0075-4490-8213-0E7FAE88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CCB64-D621-42FD-942C-C28B9F70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71424-0C69-448A-BFCB-D497EF2A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6D9B2-6449-4592-88E5-B695113A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57C08-67C0-4F2C-9DE9-F12A63C5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A7BCB-08FE-41D9-9B0A-4EC49BF9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FDEC2-DC2A-4A8D-BE2A-6795854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FD36D-09DB-4C08-9C9C-403F2991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E20E-0611-4647-9972-2CEEF19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75B69-3385-4215-9733-3423988EAD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764144-1A9C-4A87-894B-D6D6E4F741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7A92F-2A82-4106-BC96-9C3B68BE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D50BA6-6C4C-468B-888B-0665AB77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8AEF9C-1FE1-44E0-8B2E-52AA41F8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ED4AD-61F6-426B-A785-7DA579C5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FE715-CFBC-4653-A52B-3324E931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3BF18F-11CD-4BF0-B68D-DE877355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DB1E6-2FF5-4AFA-97C3-4896AF05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BF46E-F423-4D07-B63C-EE98B509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52A6C-BD19-4559-AA30-72554360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5F5DC-AF6D-4477-9CA0-0829A375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04D3E2-351E-408C-B94E-E266A042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A776-CED1-4365-AABB-8520E7A11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8BBB30-D131-4D3F-AA61-ECF452D798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E27933-5904-433A-8F7D-93CE5F5D5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05301C-0110-44F1-A85B-9FDC278E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5370CC-0242-475F-BEBB-96B7DCF6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65478F-5240-4EC5-B2BB-346C182E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A5E4F7-D7D1-4ADA-A1EF-A88ED03F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E9ABED-AC51-4664-9CAB-6D6EC6EC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840CFE-0A0F-4694-9F34-F561BD57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C1620E-9BFA-439A-93FF-D258F052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104AB4-9272-4435-90FC-C9017410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A0393-C3A4-476E-8613-96365683C6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D2CB25-FD6B-457B-A4A0-2DB65846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286535-2B66-4564-AD7A-FDFD6B2E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24DCAC-3433-4E5A-87BD-DCFD281782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89A70-C866-4004-BF77-1901869DD7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A5A5F-935F-4FFC-9985-05F2C78E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7BD9E-C044-46B7-A3BC-E11C8823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113EA-D2BE-453D-AC32-0A839EF8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81B27-BDFE-42CE-9FE4-9A6E20AC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B0E41-F8D6-45EC-A36E-3B3AA08A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24E20-9AA2-49CB-9184-95804B27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44B91-3B82-4C9E-9DE9-25B60197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DC7C2-E2DF-4862-A117-9024EB81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7BA3B-9E84-444F-8250-78D6AB0F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6AEF9-8379-4CA2-8B17-F4EDAB4A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E371D-5E36-4E10-A6EB-BCE5C67C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94DD4-4AF2-4A2F-9426-5730FF5F8C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D0352-7D63-458E-89D2-206A753D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F1097-80D7-4DD0-AC5A-520A9B8B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8E12B-6D9D-4A57-9D65-7CE985C0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8CA35-7540-4911-AB64-6711DF17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652C8-E6F5-47B2-AEF3-80CAA081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E0A6-00D2-4F3D-A16C-542A11BE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6A8606-C82A-4BAE-816D-E778E25E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BD57C-D82C-4310-88F1-8FB92563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7C541-DB90-4699-A3D2-64AD054E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CF824-A80D-4ECE-9FE8-2B63771D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89028-5BC1-4C2C-B10F-90CBEE1ED6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069A-C185-45A6-BBCE-F32D47A037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500F-9DC5-4359-8922-1750AB83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9724-96E3-4E5C-BE4A-B5A581E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EBA4-F368-494B-BFD1-F574AC2E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3F58-CBDA-40B7-A0F8-A4F77B34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3E1A-F2AD-49D4-BD1D-2064B59E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5383-DB33-425F-B38D-4562AA06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65E5-B918-4C63-A290-0F31E154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69FE-193D-4FB6-92EF-C80E2846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0D75-3B7B-4E37-AAA6-A10185E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6EBF-30FB-43D2-9F43-A3CC0FC7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52E8-619C-4AC2-9371-CC59620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2C59-EC46-4D1A-8269-7E0B4B1D1F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39300-A47C-477C-822E-F64729A73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8609D-E943-4060-8DB4-063F1A66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FD789-7A21-4BAB-A057-BE049EEC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A2379-A152-4A65-A3DA-0A07D5AB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5B284E-E4F9-4EC7-B156-54F83361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85043-CC60-4B9F-A87B-E38C0D28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39D744-1691-4A0B-8BDA-0CA455EC0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646FFD-43A3-4739-BAA7-7153375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AF33B-03F5-4D5B-B81E-8D95D452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C5E59-90C1-4C24-BBF8-4659A26B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FFA017-7BBA-4163-9992-14CB4D21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6D608-6165-46B8-A854-D4507636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57CDD-367D-4B1A-BDD5-43E765A228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CD1DA-493A-480A-93C5-547F3ED2E0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7983-7419-42C4-802C-3EFDC093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B13F85-3A60-4006-9E19-75FFBC68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6EF92-32DF-4FCF-A43B-E38BF890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E01D1-8B90-44FE-866B-57C4CFC7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980AA-C07A-471F-836C-49520165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994ACC-7F4D-4CD4-BDD1-DA8A971A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FFEC5-36DF-41E3-A2B6-0BD461FC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51A67-484B-464A-A004-31B7EBD9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3B9EA-4C7D-4765-B4E2-4D62A794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0F7ACC-B3F9-4EF2-A616-6AF05D47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CF1C85-383B-47B6-A795-0AABDC5D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317FE-8EBD-4A94-B902-C14F1082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830A4-F8E7-4A27-A6B6-50B8825980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CB573-72FA-4B71-9203-9BA81D727D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840C-0B21-46FF-8B68-CCDEE547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DA61-81D8-4DEF-8DE1-3DEED9AA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61266-48E0-4FFF-904B-E0FF4DA4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C0794-1D00-4D80-9417-29C321C7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ABB3-4189-4EBE-B806-EDC82B7B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ECB97-F3B0-4E8B-B79A-83A6006B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8F41-8CE8-44F0-A7FA-2DAD18ED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5EBF-8227-4785-8AC4-814DE4C6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445EB-9F86-4473-802F-0F793275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B10F7-6772-4100-BD5F-122E3358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4938-08A8-4ABC-BE6B-B7937193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94389-F61C-4DAF-857A-BE0CCA3697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B42BE-0D73-4EEE-BD03-E27B848814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847A5-50D0-415D-8CE1-08C182FF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46591-CF79-4876-B720-6EF9D4AA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225056-E8EB-443E-9CCD-CDAA36B1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BB116-1EC1-4408-9E69-86C16997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8B5B1B-2840-492E-8FAA-7F13BDB2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4B3DB-B513-451B-A364-BD215218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A03C-2BC6-426A-A465-84BAF8BA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9491D-B4AE-4F3E-A86D-F068CD00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F734D-E65D-42E8-A6A4-DC337F8B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3E4E0-36B3-401A-801E-6C0F4F50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F16F35-CA02-4F67-A4F0-69DB9443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7D2BC2-E9BC-4B55-8451-4BC4AB1C9C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DD927D-907E-46E8-A063-B5AD2AD2D0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57E34D-C0E8-49CB-835A-543D64C2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F1F982-1E8F-4677-861B-B5CCB2B4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B77674-D8FF-4307-B79E-46B8EEBD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CF2E78-8ABE-4BE3-9FB5-D1D20DF4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EFF3-4864-4C4D-967D-FE867AC8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356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1BE049-29F2-45C1-BE6F-2BE47453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9BD128-566A-4BD5-AD67-6241E309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67B35C-7BBB-4276-9CA9-9849C6A9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E2A5B4-FC17-41F0-B1C5-BA6FFD36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560" y="3916080"/>
            <a:ext cx="8683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5A1373-7693-4467-95DB-903C7972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4520" y="155376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56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4520" y="3916080"/>
            <a:ext cx="42375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FE74BE-0929-4E81-9F76-2F26DC5F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036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6520" y="155376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5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036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6520" y="3916080"/>
            <a:ext cx="27957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6A2036-C6C9-4BAF-8F07-BBE30B7C59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914FA-31AE-4C83-9649-B444BE5B45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30696-AE68-4C07-B072-2457ACD7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57836-9EE2-4B20-8B2F-952C8D21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6.0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CDCCA-1CEE-4339-8AB0-630F62A797B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9" name="Picture 10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Text Box 11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Group 12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2" name="Picture 13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Text Box 14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0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2B573-59E2-40D2-AC94-E1C741A939AF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45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462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465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1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sldNum" idx="22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14220-4C75-4A05-A8C5-DD7D22DD68DE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23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4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BD57C-0840-4CC9-8DBE-9FE109081AFE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512640" y="4029120"/>
            <a:ext cx="8628120" cy="9360"/>
            <a:chOff x="512640" y="4029120"/>
            <a:chExt cx="8628120" cy="9360"/>
          </a:xfrm>
        </p:grpSpPr>
        <p:pic>
          <p:nvPicPr>
            <p:cNvPr id="51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4029120"/>
              <a:ext cx="86281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3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ACAF990-ED36-4766-A7B3-D175E287D4C0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9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98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01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1129E-A81D-427A-B298-8EA41B8EB7D5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12640" y="3438360"/>
            <a:ext cx="8628120" cy="8280"/>
            <a:chOff x="512640" y="3438360"/>
            <a:chExt cx="8628120" cy="8280"/>
          </a:xfrm>
        </p:grpSpPr>
        <p:pic>
          <p:nvPicPr>
            <p:cNvPr id="145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28120" cy="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2E48B-A98E-436E-85BD-EB56C586DB35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8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192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195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9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10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42061-3160-4F7F-A6FE-15F3FAEA1947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1"/>
          <p:cNvGrpSpPr/>
          <p:nvPr/>
        </p:nvGrpSpPr>
        <p:grpSpPr>
          <a:xfrm>
            <a:off x="512640" y="6016680"/>
            <a:ext cx="8628120" cy="9360"/>
            <a:chOff x="512640" y="6016680"/>
            <a:chExt cx="8628120" cy="9360"/>
          </a:xfrm>
        </p:grpSpPr>
        <p:pic>
          <p:nvPicPr>
            <p:cNvPr id="239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28120" cy="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3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1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6760"/>
            <a:ext cx="758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21CA7E8-3B6C-4D63-B346-46FA6A9369AF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1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83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Text Box 3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4"/>
          <p:cNvGrpSpPr/>
          <p:nvPr/>
        </p:nvGrpSpPr>
        <p:grpSpPr>
          <a:xfrm>
            <a:off x="512640" y="1042920"/>
            <a:ext cx="8628120" cy="14400"/>
            <a:chOff x="512640" y="1042920"/>
            <a:chExt cx="8628120" cy="14400"/>
          </a:xfrm>
        </p:grpSpPr>
        <p:pic>
          <p:nvPicPr>
            <p:cNvPr id="286" name="Picture 5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28120" cy="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512640" y="1054080"/>
            <a:ext cx="8628120" cy="9720"/>
            <a:chOff x="512640" y="1054080"/>
            <a:chExt cx="8628120" cy="9720"/>
          </a:xfrm>
        </p:grpSpPr>
        <p:pic>
          <p:nvPicPr>
            <p:cNvPr id="289" name="Picture 8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28120" cy="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9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3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14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Эффективное управление временем и ресурсами.                                                                                            </a:t>
            </a:r>
            <a:fld id="{05B57553-FED8-4738-B58C-AFA6AFC80324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5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sldNum" idx="16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11E34-0B6D-413A-9874-3CB4ECEFA947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1"/>
          <p:cNvGrpSpPr/>
          <p:nvPr/>
        </p:nvGrpSpPr>
        <p:grpSpPr>
          <a:xfrm>
            <a:off x="512640" y="5846760"/>
            <a:ext cx="8628120" cy="7920"/>
            <a:chOff x="512640" y="5846760"/>
            <a:chExt cx="8628120" cy="7920"/>
          </a:xfrm>
        </p:grpSpPr>
        <p:pic>
          <p:nvPicPr>
            <p:cNvPr id="374" name="Picture 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28120" cy="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 Box 3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560" y="1553760"/>
            <a:ext cx="86835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356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7"/>
          </p:nvPr>
        </p:nvSpPr>
        <p:spPr>
          <a:xfrm>
            <a:off x="6477120" y="75960"/>
            <a:ext cx="251136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16.01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sldNum" idx="18"/>
          </p:nvPr>
        </p:nvSpPr>
        <p:spPr>
          <a:xfrm>
            <a:off x="468000" y="6477120"/>
            <a:ext cx="852012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8C328-BFF2-4455-99BF-87D3A5DC116C}" type="slidenum">
              <a:rPr b="0" lang="ru-RU" sz="1400" spc="-1" strike="noStrike">
                <a:solidFill>
                  <a:srgbClr val="268ea8"/>
                </a:solidFill>
                <a:latin typeface="Franklin Gothic Book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361800" y="3500280"/>
            <a:ext cx="8458200" cy="12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ПРЕЗЕНТАЦИЯ ПРОЕКТА</a:t>
            </a:r>
            <a:br>
              <a:rPr sz="2600"/>
            </a:b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«ВНЕДРЕНИЕ МЕХАНИЗМА ОТБОРА, ПОДГОТОВКИ И СОПРОВОЖДЕНИЯ СОЦИАЛЬНО-АКТИВНОЙ МОЛОДЕЖИ БЕЛГОРОДСКОЙ ОБЛАСТИ </a:t>
            </a:r>
            <a:br>
              <a:rPr sz="2600"/>
            </a:br>
            <a:r>
              <a:rPr b="0" lang="ru-RU" sz="2600" spc="-1" strike="noStrike">
                <a:solidFill>
                  <a:srgbClr val="464646"/>
                </a:solidFill>
                <a:latin typeface="Franklin Gothic Medium"/>
              </a:rPr>
              <a:t>(МОЛОДЕЖНОЕ ПРАВИТЕЛЬСТВО) 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98520" y="1484280"/>
            <a:ext cx="84582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d3d3d"/>
                </a:solidFill>
                <a:latin typeface="Franklin Gothic Book"/>
              </a:rPr>
              <a:t>Департамент внутренней и кадровой политики Белгород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d3d3d"/>
                </a:solidFill>
                <a:latin typeface="Franklin Gothic Book"/>
              </a:rPr>
              <a:t>Управление молодежной политики Белгородской обла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468360" y="216000"/>
            <a:ext cx="1143000" cy="136044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34776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Franklin Gothic Book"/>
              </a:rPr>
              <a:t>г. Белгород, 2017 г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1"/>
          <p:cNvSpPr/>
          <p:nvPr/>
        </p:nvSpPr>
        <p:spPr>
          <a:xfrm>
            <a:off x="304920" y="189000"/>
            <a:ext cx="86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79280" y="1052640"/>
          <a:ext cx="8732880" cy="4924440"/>
        </p:xfrm>
        <a:graphic>
          <a:graphicData uri="http://schemas.openxmlformats.org/drawingml/2006/table">
            <a:tbl>
              <a:tblPr/>
              <a:tblGrid>
                <a:gridCol w="374760"/>
                <a:gridCol w="1640880"/>
                <a:gridCol w="1296360"/>
                <a:gridCol w="934920"/>
                <a:gridCol w="926640"/>
                <a:gridCol w="222120"/>
                <a:gridCol w="222480"/>
                <a:gridCol w="222120"/>
                <a:gridCol w="222120"/>
                <a:gridCol w="222480"/>
                <a:gridCol w="222120"/>
                <a:gridCol w="222480"/>
                <a:gridCol w="222120"/>
                <a:gridCol w="222120"/>
                <a:gridCol w="222480"/>
                <a:gridCol w="234720"/>
                <a:gridCol w="216000"/>
                <a:gridCol w="222120"/>
                <a:gridCol w="222120"/>
                <a:gridCol w="222480"/>
                <a:gridCol w="219240"/>
              </a:tblGrid>
              <a:tr h="270720"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ность,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-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первой волны обучения для членом молодежного правитель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9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9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1.20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6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здание проектов молодежного правитель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74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6.01.20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.01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7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азания содействия в трудоустройстве для членом молодёжного правительств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7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1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3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 grid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40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.12.20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.03.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1"/>
          <p:cNvSpPr/>
          <p:nvPr/>
        </p:nvSpPr>
        <p:spPr>
          <a:xfrm>
            <a:off x="457200" y="42876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БЮДЖЕ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79280" y="1052640"/>
          <a:ext cx="8856720" cy="2987640"/>
        </p:xfrm>
        <a:graphic>
          <a:graphicData uri="http://schemas.openxmlformats.org/drawingml/2006/table">
            <a:tbl>
              <a:tblPr/>
              <a:tblGrid>
                <a:gridCol w="322200"/>
                <a:gridCol w="3071880"/>
                <a:gridCol w="897120"/>
                <a:gridCol w="677880"/>
                <a:gridCol w="949320"/>
                <a:gridCol w="633240"/>
                <a:gridCol w="833400"/>
                <a:gridCol w="754200"/>
                <a:gridCol w="717480"/>
              </a:tblGrid>
              <a:tr h="289440">
                <a:tc rowSpan="2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 проекта,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ные источ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небюджетные источн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Феде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ль-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ласт- н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ест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редства хоз. субъек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ем- ные средст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Franklin Gothic Book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обучения членов молодежного правительства Белгородской област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96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Franklin Gothic Book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4280" bIns="4428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текущей деятельности молодежного правительства Белгородской област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Segoe UI"/>
                        </a:rPr>
                        <a:t>14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 gridSpan="2">
                  <a:txBody>
                    <a:bodyPr tIns="44280" bIns="442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9360" bIns="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Franklin Gothic Book"/>
                          <a:ea typeface="Segoe UI"/>
                        </a:rPr>
                        <a:t>11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72000" tIns="44280" bIns="44280" anchor="ctr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72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1"/>
          <p:cNvSpPr/>
          <p:nvPr/>
        </p:nvSpPr>
        <p:spPr>
          <a:xfrm>
            <a:off x="304920" y="3175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ФОРМЫ УЧАСТИЯ ОБЛАСТИ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 РЕАЛИЗАЦИИ ПРОЕК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"/>
          <p:cNvSpPr/>
          <p:nvPr/>
        </p:nvSpPr>
        <p:spPr>
          <a:xfrm>
            <a:off x="4861080" y="152280"/>
            <a:ext cx="18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-167400" y="6402240"/>
            <a:ext cx="580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 baseline="30000">
                <a:solidFill>
                  <a:srgbClr val="000000"/>
                </a:solidFill>
                <a:latin typeface="Franklin Gothic Book"/>
                <a:ea typeface="Times New Roman"/>
              </a:rPr>
              <a:t>13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еобходимо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казать основание выделения денежных средст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79280" y="1112760"/>
          <a:ext cx="8815320" cy="5553000"/>
        </p:xfrm>
        <a:graphic>
          <a:graphicData uri="http://schemas.openxmlformats.org/drawingml/2006/table">
            <a:tbl>
              <a:tblPr/>
              <a:tblGrid>
                <a:gridCol w="1871640"/>
                <a:gridCol w="2233800"/>
                <a:gridCol w="142920"/>
                <a:gridCol w="1469880"/>
                <a:gridCol w="1549440"/>
                <a:gridCol w="1547640"/>
              </a:tblGrid>
              <a:tr h="277920">
                <a:tc gridSpan="6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Бюджетное финанс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 gridSpan="2" row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Форма участ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000" rIns="36000" tIns="33840" bIns="0" anchor="ctr">
                      <a:noAutofit/>
                    </a:bodyPr>
                    <a:p>
                      <a:pPr marL="457200"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азмер участия бюджета, 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marL="228600">
                        <a:lnSpc>
                          <a:spcPct val="110000"/>
                        </a:lnSpc>
                        <a:tabLst>
                          <a:tab algn="l" pos="0"/>
                          <a:tab algn="l" pos="228600"/>
                          <a:tab algn="l" pos="676440"/>
                          <a:tab algn="l" pos="1125360"/>
                          <a:tab algn="l" pos="1574640"/>
                          <a:tab algn="l" pos="2023920"/>
                          <a:tab algn="l" pos="2473200"/>
                          <a:tab algn="l" pos="2922480"/>
                          <a:tab algn="l" pos="3371760"/>
                          <a:tab algn="l" pos="3821040"/>
                          <a:tab algn="l" pos="4270320"/>
                          <a:tab algn="l" pos="4719600"/>
                          <a:tab algn="l" pos="5168880"/>
                          <a:tab algn="l" pos="5618160"/>
                          <a:tab algn="l" pos="6067440"/>
                          <a:tab algn="l" pos="6516720"/>
                          <a:tab algn="l" pos="6966000"/>
                          <a:tab algn="l" pos="7415280"/>
                          <a:tab algn="l" pos="7864560"/>
                          <a:tab algn="l" pos="8313840"/>
                          <a:tab algn="l" pos="8763120"/>
                          <a:tab algn="l" pos="9212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Федера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бластно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Мест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ямое бюджетное финансиров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соответствующую программ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0 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Дорог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плановую протяжен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Субсиди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соответствующую программ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440"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560">
                <a:tc gridSpan="6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граммы государственной поддерж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отреб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 marL="457200" algn="ctr">
                        <a:lnSpc>
                          <a:spcPct val="110000"/>
                        </a:lnSpc>
                        <a:tabLst>
                          <a:tab algn="l" pos="0"/>
                          <a:tab algn="l" pos="457200"/>
                          <a:tab algn="l" pos="905040"/>
                          <a:tab algn="l" pos="1353960"/>
                          <a:tab algn="l" pos="1803240"/>
                          <a:tab algn="l" pos="2252520"/>
                          <a:tab algn="l" pos="2701800"/>
                          <a:tab algn="l" pos="3151080"/>
                          <a:tab algn="l" pos="3600360"/>
                          <a:tab algn="l" pos="4049640"/>
                          <a:tab algn="l" pos="4498920"/>
                          <a:tab algn="l" pos="4948200"/>
                          <a:tab algn="l" pos="5397480"/>
                          <a:tab algn="l" pos="5846760"/>
                          <a:tab algn="l" pos="6296040"/>
                          <a:tab algn="l" pos="6745320"/>
                          <a:tab algn="l" pos="7194600"/>
                          <a:tab algn="l" pos="7643880"/>
                          <a:tab algn="l" pos="8093160"/>
                          <a:tab algn="l" pos="8542440"/>
                          <a:tab algn="l" pos="8991720"/>
                          <a:tab algn="l" pos="944100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Финансовые вложения, 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24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Электроэнергия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требуемую мощ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Газоснабжение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требуемый объ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120">
                <a:tc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Водоснабжение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6000" rIns="36000" tIns="3384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казать требуемый объ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56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Гаранти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56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алоги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3920"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Прочие формы участия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0280">
                <a:tc gridSpan="6">
                  <a:txBody>
                    <a:bodyPr lIns="36000" rIns="36000" tIns="33840" bIns="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Земельный участок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у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казать адрес расположения земельного участка, указать площадь земельного участка, указать расчетную стоимость (аренды) участ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1"/>
          <p:cNvSpPr/>
          <p:nvPr/>
        </p:nvSpPr>
        <p:spPr>
          <a:xfrm>
            <a:off x="304920" y="1522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ПОКАЗАТЕЛИ СОЦИАЛЬНОЙ, БЮДЖЕТНОЙ И ЭКОНОМИЧЕСКОЙ ЭФФЕКТИВНОСТИ ПРОЕКТА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04840" y="836640"/>
          <a:ext cx="8885160" cy="5854680"/>
        </p:xfrm>
        <a:graphic>
          <a:graphicData uri="http://schemas.openxmlformats.org/drawingml/2006/table">
            <a:tbl>
              <a:tblPr/>
              <a:tblGrid>
                <a:gridCol w="466560"/>
                <a:gridCol w="6377040"/>
                <a:gridCol w="1177920"/>
                <a:gridCol w="863640"/>
              </a:tblGrid>
              <a:tr h="263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циальная эффектив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хват населения социальными благами за период реализации прое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чел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овые рабочие мес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Ед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редняя з/п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ыс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есячный ФО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овой ФО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Иные показател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Бюджетная эффектив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Участие бюджетных источников в проект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логи в консолидированный бюджет обла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лог с 1 работника в консолидированный бюджет области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Целевая выработка на одного работни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рок окупаемости бюджетных инвестици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Calibri"/>
                        </a:rPr>
                        <a:t>Снижение возможного ущерб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Экономия бюджетных средст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Экономическая эффективность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овой объем выручки 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одовой объем прибыли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ентабельность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рок окупаемости прое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Лет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ъем инвестиций в основной капитал в рамках проект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бъем инвестиций, осваиваемых на территории обла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Млн. руб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Иные показател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Text Box 293"/>
          <p:cNvSpPr/>
          <p:nvPr/>
        </p:nvSpPr>
        <p:spPr>
          <a:xfrm>
            <a:off x="4863960" y="152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1"/>
          <p:cNvSpPr/>
          <p:nvPr/>
        </p:nvSpPr>
        <p:spPr>
          <a:xfrm>
            <a:off x="301680" y="426960"/>
            <a:ext cx="86868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КОМАНДА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250920" y="1197000"/>
          <a:ext cx="8715240" cy="5157720"/>
        </p:xfrm>
        <a:graphic>
          <a:graphicData uri="http://schemas.openxmlformats.org/drawingml/2006/table">
            <a:tbl>
              <a:tblPr/>
              <a:tblGrid>
                <a:gridCol w="428400"/>
                <a:gridCol w="1876680"/>
                <a:gridCol w="3554280"/>
                <a:gridCol w="2855880"/>
              </a:tblGrid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ФИ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Должность и основное место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Выполняемые в проекте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Чесноков Андрей Валериеви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Заместитель начальника департамента внутренней и кадровой политики области – начальник управления молодежной политики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Куратор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Шуваева Светлана Михайло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ьник отдела организационно-массовой работы управления молодежной политики обла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Головенко Екатерина Сергеев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пециалист по работе с молодежью ОГБУ «Центр молодежных инициатив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Администратор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Оператор мониторинга прое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algn="just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1c1c1c"/>
                          </a:solidFill>
                          <a:latin typeface="Franklin Gothic Book"/>
                          <a:ea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4" name="Text Box 111"/>
          <p:cNvSpPr/>
          <p:nvPr/>
        </p:nvSpPr>
        <p:spPr>
          <a:xfrm>
            <a:off x="4863960" y="152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4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1"/>
          <p:cNvSpPr/>
          <p:nvPr/>
        </p:nvSpPr>
        <p:spPr>
          <a:xfrm>
            <a:off x="3348000" y="3500280"/>
            <a:ext cx="5472000" cy="9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Руководитель проект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тел.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d3d3d"/>
                </a:solidFill>
                <a:latin typeface="Franklin Gothic Book"/>
              </a:rPr>
              <a:t>e-mail</a:t>
            </a: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Администратор проекта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>
                <a:solidFill>
                  <a:srgbClr val="3d3d3d"/>
                </a:solidFill>
                <a:latin typeface="Franklin Gothic Book"/>
              </a:rPr>
              <a:t>ФИО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тел.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3d3d3d"/>
                </a:solidFill>
                <a:latin typeface="Franklin Gothic Book"/>
              </a:rPr>
              <a:t>e-mail</a:t>
            </a:r>
            <a:r>
              <a:rPr b="0" lang="ru-RU" sz="1300" spc="-1" strike="noStrike">
                <a:solidFill>
                  <a:srgbClr val="3d3d3d"/>
                </a:solidFill>
                <a:latin typeface="Franklin Gothic Book"/>
              </a:rPr>
              <a:t>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13644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136440"/>
                <a:tab algn="l" pos="584280"/>
                <a:tab algn="l" pos="1033560"/>
                <a:tab algn="l" pos="1482840"/>
                <a:tab algn="l" pos="1932120"/>
                <a:tab algn="l" pos="2381400"/>
                <a:tab algn="l" pos="2830680"/>
                <a:tab algn="l" pos="3279600"/>
                <a:tab algn="l" pos="3728880"/>
                <a:tab algn="l" pos="4178160"/>
                <a:tab algn="l" pos="4627440"/>
                <a:tab algn="l" pos="5076720"/>
                <a:tab algn="l" pos="5526000"/>
                <a:tab algn="l" pos="5975280"/>
                <a:tab algn="l" pos="6424560"/>
                <a:tab algn="l" pos="6873840"/>
                <a:tab algn="l" pos="7323120"/>
                <a:tab algn="l" pos="7772400"/>
                <a:tab algn="l" pos="8221680"/>
                <a:tab algn="l" pos="8670960"/>
                <a:tab algn="l" pos="9120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2"/>
          <p:cNvSpPr/>
          <p:nvPr/>
        </p:nvSpPr>
        <p:spPr>
          <a:xfrm>
            <a:off x="181080" y="2205000"/>
            <a:ext cx="86868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КОНТАКТНЫЕ ДАННЫЕ: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826920" y="5538960"/>
            <a:ext cx="3313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заместитель начальника департамента внутренней и кадровой политики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6732720" y="599292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Мись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4863960" y="15228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Franklin Gothic Book"/>
              </a:rPr>
              <a:t>4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304920" y="439560"/>
            <a:ext cx="916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ЕСТЬ»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468360" y="1125360"/>
            <a:ext cx="84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9"/>
          <p:cNvSpPr/>
          <p:nvPr/>
        </p:nvSpPr>
        <p:spPr>
          <a:xfrm>
            <a:off x="561960" y="3424320"/>
            <a:ext cx="2281320" cy="24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ТСУТСТВИЕ УТВЕРЖДЕННОЙ ОРГАНИЗАЦИОННОЙ СТРУКТУРЫ МОЛОДЕЖНОГО ПРАВИТЕЛЬСТВА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Прямоугольник 16"/>
          <p:cNvSpPr/>
          <p:nvPr/>
        </p:nvSpPr>
        <p:spPr>
          <a:xfrm>
            <a:off x="3492360" y="3451320"/>
            <a:ext cx="2266920" cy="241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ТСУТСТВИЕ СИСТЕМАТИЗИРОВАННОЙ ОБРАЗОВАТЕЛЬНОЙ ПРОГРАММЫ                      С ПОСЛЕДУЮЩЕЙ ОЦЕНКОЙ УРОВНЯ ЗНАНИЙ, ПОЛУЧЕННОГО ЧЛЕНАМИ МОЛОДЕЖНОГО ПРАВИТЕЛЬСТВА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оугольник 17"/>
          <p:cNvSpPr/>
          <p:nvPr/>
        </p:nvSpPr>
        <p:spPr>
          <a:xfrm>
            <a:off x="6475320" y="3446640"/>
            <a:ext cx="2232000" cy="2408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</a:rPr>
              <a:t>ОТСУТСТВИЕ КРИТЕРИЕВ ЭФФЕКТИВНОСТИ ПРОХОЖДЕНИЯ СТАЖИРОВОК ЧЛЕНАМИ МОЛОДЕЖНОГО ПРАВИТЕЛЬСТВА БЕЛГОРОДСКО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Скругленный прямоугольник 10"/>
          <p:cNvSpPr/>
          <p:nvPr/>
        </p:nvSpPr>
        <p:spPr>
          <a:xfrm>
            <a:off x="492120" y="2560680"/>
            <a:ext cx="82090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ПО ИТОГАМ ДЕЯТЕЛЬНОСТИ </a:t>
            </a: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VII 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ОЗЫВА МОЛОДЕЖНОГО ПРАВИТЕЛЬСТВА БЕЛГОРОДСКОЙ ОБЛАСТИ МОЖНО ВЫДЕЛИТЬ СЛЕДУЮЩИЕ ПРОБЛЕМНЫЕ МОМЕН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Скругленный прямоугольник 13"/>
          <p:cNvSpPr/>
          <p:nvPr/>
        </p:nvSpPr>
        <p:spPr>
          <a:xfrm>
            <a:off x="492120" y="1052640"/>
            <a:ext cx="8209080" cy="13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В НАСТОЯЩИЙ МОМЕНТ ИСТЕК СРОК ПОЛНОМОЧИЙ </a:t>
            </a:r>
            <a:r>
              <a:rPr b="0" lang="en-US" sz="1600" spc="-1" strike="noStrike">
                <a:solidFill>
                  <a:srgbClr val="000000"/>
                </a:solidFill>
                <a:latin typeface="Franklin Gothic Medium"/>
              </a:rPr>
              <a:t>VII 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СОЗЫВА МОЛОДЕЖНОГО ПРАВИТЕЛЬСТВА БЕЛГОРОДСКОЙ ОБЛАСТИ, ОБЩАЯ ЧИСЛЕННОСТЬ КОТОРОГО СОСТАВЛЯЛА 16 ЧЕЛОВЕК, ВЫБРАННЫХ ПУТЁМ КОНКУРСНОГО ОТБОРА ИЗ ЧИСЛА ГРАЖДАН РОССИЙСКОЙ ФЕДЕРАЦИИ В ВОЗРАСТЕ ОТ 18 ДО 30 ЛЕТ, ПРОЖИВАЮЩИХ НА ТЕРРИТОРИИ БЕЛГОРОД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Овал 18"/>
          <p:cNvSpPr/>
          <p:nvPr/>
        </p:nvSpPr>
        <p:spPr>
          <a:xfrm>
            <a:off x="1258920" y="5832360"/>
            <a:ext cx="792000" cy="649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Овал 23"/>
          <p:cNvSpPr/>
          <p:nvPr/>
        </p:nvSpPr>
        <p:spPr>
          <a:xfrm>
            <a:off x="4229280" y="5864400"/>
            <a:ext cx="792000" cy="64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Овал 24"/>
          <p:cNvSpPr/>
          <p:nvPr/>
        </p:nvSpPr>
        <p:spPr>
          <a:xfrm>
            <a:off x="7308720" y="5864400"/>
            <a:ext cx="792360" cy="649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2" name="Прямая со стрелкой 20"/>
          <p:cNvCxnSpPr>
            <a:endCxn id="564" idx="0"/>
          </p:cNvCxnSpPr>
          <p:nvPr/>
        </p:nvCxnSpPr>
        <p:spPr>
          <a:xfrm>
            <a:off x="1703160" y="3208320"/>
            <a:ext cx="1080" cy="216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3" name="Прямая со стрелкой 37"/>
          <p:cNvCxnSpPr/>
          <p:nvPr/>
        </p:nvCxnSpPr>
        <p:spPr>
          <a:xfrm>
            <a:off x="4597200" y="3233880"/>
            <a:ext cx="1080" cy="218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4" name="Прямая со стрелкой 38"/>
          <p:cNvCxnSpPr>
            <a:endCxn id="566" idx="0"/>
          </p:cNvCxnSpPr>
          <p:nvPr/>
        </p:nvCxnSpPr>
        <p:spPr>
          <a:xfrm>
            <a:off x="7590960" y="3233520"/>
            <a:ext cx="1080" cy="2134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1"/>
          <p:cNvSpPr/>
          <p:nvPr/>
        </p:nvSpPr>
        <p:spPr>
          <a:xfrm>
            <a:off x="301680" y="189000"/>
            <a:ext cx="8686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42920" y="765000"/>
          <a:ext cx="8880480" cy="5931000"/>
        </p:xfrm>
        <a:graphic>
          <a:graphicData uri="http://schemas.openxmlformats.org/drawingml/2006/table">
            <a:tbl>
              <a:tblPr/>
              <a:tblGrid>
                <a:gridCol w="1797120"/>
                <a:gridCol w="7083360"/>
              </a:tblGrid>
              <a:tr h="63972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Цель проекта: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 Unicode MS"/>
                        </a:rPr>
                        <a:t>К марту 2019 года обеспечить подготовку не менее 25 человек, обладающих компетенциями и навыками в области проектного управления для включения в кадровой резерв регио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пособ достижения цели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 Unicode MS"/>
                        </a:rPr>
                        <a:t>Посредством организации деятельности молодежного правительства Белгородской области к марту 2019 года апробировать механизм отбора,                  практико-ориентированной подготовки и сопровождения социально-активной молодежи Белгородской област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езультат проекта: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 и апробирован механизм отбора, подготовки и сопровождения социально-активной молодежи Белгородской области, обеспечивающий включение не менее 25 молодых людей в кадровый резерв регион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708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Требования</a:t>
                      </a:r>
                      <a:br>
                        <a:rPr sz="1300"/>
                      </a:b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к результату: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ы и утверждены НПА, регламентирующие создание и функционирование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 конкурсный отбор по формированию молодежного правительства  (не менее 100 заявок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ставлены карты компетенций для каждого члена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ставлены и утверждены графики прохождения стажировок для каждого члена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ы критерии эффективности прохождения стажировки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ана и реализована образовательная программа (не менее 16 часов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а оценка полученных знаний членами молодежного правительств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82600" indent="-2826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Franklin Gothic Book"/>
                        <a:buChar char="-"/>
                        <a:tabLst>
                          <a:tab algn="l" pos="282600"/>
                          <a:tab algn="l" pos="730080"/>
                          <a:tab algn="l" pos="1179360"/>
                          <a:tab algn="l" pos="1628640"/>
                          <a:tab algn="l" pos="2077920"/>
                          <a:tab algn="l" pos="2527200"/>
                          <a:tab algn="l" pos="2976480"/>
                          <a:tab algn="l" pos="3425760"/>
                          <a:tab algn="l" pos="3875040"/>
                          <a:tab algn="l" pos="4324320"/>
                          <a:tab algn="l" pos="4773600"/>
                          <a:tab algn="l" pos="5222880"/>
                          <a:tab algn="l" pos="5672160"/>
                          <a:tab algn="l" pos="6121440"/>
                          <a:tab algn="l" pos="6570720"/>
                          <a:tab algn="l" pos="7020000"/>
                          <a:tab algn="l" pos="7469280"/>
                          <a:tab algn="l" pos="7918560"/>
                          <a:tab algn="l" pos="8367840"/>
                          <a:tab algn="l" pos="8817120"/>
                          <a:tab algn="l" pos="926640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членами молодежного правительства реализованы проекты (не менее 3-х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tIns="39960" bIns="3996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ользователи результата проекта: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9960" bIns="39960"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Граждане Российской Федерации в возрасте от 21 до 30 лет, проживающие              на территории Белгородской област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Прямоугольник 2"/>
          <p:cNvSpPr/>
          <p:nvPr/>
        </p:nvSpPr>
        <p:spPr>
          <a:xfrm>
            <a:off x="687240" y="18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ВВЕДЕНИЕ В ПРЕДМЕТНУЮ ОБЛАСТЬ</a:t>
            </a:r>
            <a:br>
              <a:rPr sz="1800"/>
            </a:b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(ОПИСАНИЕ СИТУАЦИИ «КАК БУДЕТ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Рисунок 3" descr=""/>
          <p:cNvPicPr/>
          <p:nvPr/>
        </p:nvPicPr>
        <p:blipFill>
          <a:blip r:embed="rId1"/>
          <a:stretch/>
        </p:blipFill>
        <p:spPr>
          <a:xfrm>
            <a:off x="189000" y="2135160"/>
            <a:ext cx="1557360" cy="150012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5" descr=""/>
          <p:cNvPicPr/>
          <p:nvPr/>
        </p:nvPicPr>
        <p:blipFill>
          <a:blip r:embed="rId2"/>
          <a:stretch/>
        </p:blipFill>
        <p:spPr>
          <a:xfrm>
            <a:off x="6473880" y="2135160"/>
            <a:ext cx="1212840" cy="150012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6" descr=""/>
          <p:cNvPicPr/>
          <p:nvPr/>
        </p:nvPicPr>
        <p:blipFill>
          <a:blip r:embed="rId3"/>
          <a:stretch/>
        </p:blipFill>
        <p:spPr>
          <a:xfrm>
            <a:off x="2973240" y="2214720"/>
            <a:ext cx="1683000" cy="142056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7" descr=""/>
          <p:cNvPicPr/>
          <p:nvPr/>
        </p:nvPicPr>
        <p:blipFill>
          <a:blip r:embed="rId4"/>
          <a:stretch/>
        </p:blipFill>
        <p:spPr>
          <a:xfrm>
            <a:off x="4224240" y="4765680"/>
            <a:ext cx="1441440" cy="139068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8" descr=""/>
          <p:cNvPicPr/>
          <p:nvPr/>
        </p:nvPicPr>
        <p:blipFill>
          <a:blip r:embed="rId5"/>
          <a:stretch/>
        </p:blipFill>
        <p:spPr>
          <a:xfrm>
            <a:off x="3240" y="4624560"/>
            <a:ext cx="2098440" cy="15048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9"/>
          <p:cNvSpPr/>
          <p:nvPr/>
        </p:nvSpPr>
        <p:spPr>
          <a:xfrm>
            <a:off x="104760" y="1484280"/>
            <a:ext cx="18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Franklin Gothic Medium"/>
              </a:rPr>
              <a:t>Не менее 100 заяв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10"/>
          <p:cNvSpPr/>
          <p:nvPr/>
        </p:nvSpPr>
        <p:spPr>
          <a:xfrm>
            <a:off x="1857240" y="354816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2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1714680" y="2465280"/>
            <a:ext cx="1473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конкурса по формированию  молодежного правительства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Box 13"/>
          <p:cNvSpPr/>
          <p:nvPr/>
        </p:nvSpPr>
        <p:spPr>
          <a:xfrm>
            <a:off x="3068640" y="159228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Franklin Gothic Book"/>
              </a:rPr>
              <a:t>30 </a:t>
            </a:r>
            <a:r>
              <a:rPr b="0" lang="ru-RU" sz="1400" spc="-1" strike="noStrike">
                <a:solidFill>
                  <a:srgbClr val="ff0000"/>
                </a:solidFill>
                <a:latin typeface="Franklin Gothic Book"/>
              </a:rPr>
              <a:t>челове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Box 17"/>
          <p:cNvSpPr/>
          <p:nvPr/>
        </p:nvSpPr>
        <p:spPr>
          <a:xfrm>
            <a:off x="4740120" y="2211480"/>
            <a:ext cx="201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составление карт компетен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командообра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выбор наставник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утверждение пл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и регламента работ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19"/>
          <p:cNvSpPr/>
          <p:nvPr/>
        </p:nvSpPr>
        <p:spPr>
          <a:xfrm>
            <a:off x="5070600" y="3649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4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21"/>
          <p:cNvSpPr/>
          <p:nvPr/>
        </p:nvSpPr>
        <p:spPr>
          <a:xfrm rot="20903400">
            <a:off x="4913280" y="42544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4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20"/>
          <p:cNvSpPr/>
          <p:nvPr/>
        </p:nvSpPr>
        <p:spPr>
          <a:xfrm>
            <a:off x="7667640" y="2187720"/>
            <a:ext cx="1882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хождение стажировок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образовательной програм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вклю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в состав команды проек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1979640" y="4775040"/>
            <a:ext cx="22446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разработка и реализация проектов молодежного прави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проведение образовательной програм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Box 28"/>
          <p:cNvSpPr/>
          <p:nvPr/>
        </p:nvSpPr>
        <p:spPr>
          <a:xfrm>
            <a:off x="2506680" y="6129360"/>
            <a:ext cx="114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12 месяце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3" name="Прямая со стрелкой 29"/>
          <p:cNvCxnSpPr/>
          <p:nvPr/>
        </p:nvCxnSpPr>
        <p:spPr>
          <a:xfrm>
            <a:off x="4861080" y="3634920"/>
            <a:ext cx="149904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94" name="Прямая со стрелкой 31"/>
          <p:cNvCxnSpPr/>
          <p:nvPr/>
        </p:nvCxnSpPr>
        <p:spPr>
          <a:xfrm>
            <a:off x="1847520" y="3481200"/>
            <a:ext cx="103716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95" name="Прямая со стрелкой 34"/>
          <p:cNvCxnSpPr/>
          <p:nvPr/>
        </p:nvCxnSpPr>
        <p:spPr>
          <a:xfrm flipH="1">
            <a:off x="2101320" y="3701520"/>
            <a:ext cx="5834880" cy="92340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pic>
        <p:nvPicPr>
          <p:cNvPr id="596" name="Рисунок 50" descr=""/>
          <p:cNvPicPr/>
          <p:nvPr/>
        </p:nvPicPr>
        <p:blipFill>
          <a:blip r:embed="rId6"/>
          <a:stretch/>
        </p:blipFill>
        <p:spPr>
          <a:xfrm>
            <a:off x="7245360" y="4842000"/>
            <a:ext cx="1649520" cy="1454040"/>
          </a:xfrm>
          <a:prstGeom prst="rect">
            <a:avLst/>
          </a:prstGeom>
          <a:ln w="0">
            <a:noFill/>
          </a:ln>
        </p:spPr>
      </p:pic>
      <p:sp>
        <p:nvSpPr>
          <p:cNvPr id="597" name="TextBox 54"/>
          <p:cNvSpPr/>
          <p:nvPr/>
        </p:nvSpPr>
        <p:spPr>
          <a:xfrm>
            <a:off x="5830920" y="6129360"/>
            <a:ext cx="11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Franklin Gothic Book"/>
              </a:rPr>
              <a:t>2 месяц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53"/>
          <p:cNvSpPr/>
          <p:nvPr/>
        </p:nvSpPr>
        <p:spPr>
          <a:xfrm>
            <a:off x="5681520" y="501012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  </a:t>
            </a:r>
            <a:r>
              <a:rPr b="0" lang="ru-RU" sz="1200" spc="-1" strike="noStrike">
                <a:solidFill>
                  <a:srgbClr val="0d0d0d"/>
                </a:solidFill>
                <a:latin typeface="Franklin Gothic Book"/>
              </a:rPr>
              <a:t>оказания содействия в трудоустройств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9" name="Прямая со стрелкой 29"/>
          <p:cNvCxnSpPr/>
          <p:nvPr/>
        </p:nvCxnSpPr>
        <p:spPr>
          <a:xfrm>
            <a:off x="2013120" y="6021000"/>
            <a:ext cx="217872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00" name="Прямая со стрелкой 32"/>
          <p:cNvCxnSpPr/>
          <p:nvPr/>
        </p:nvCxnSpPr>
        <p:spPr>
          <a:xfrm>
            <a:off x="5748120" y="6021000"/>
            <a:ext cx="1415160" cy="108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1960" y="404640"/>
            <a:ext cx="7627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1800"/>
            </a:br>
            <a:endParaRPr b="0" lang="en-US" sz="18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02" name="Скругленный прямоугольник 9"/>
          <p:cNvSpPr/>
          <p:nvPr/>
        </p:nvSpPr>
        <p:spPr>
          <a:xfrm>
            <a:off x="2031840" y="1052640"/>
            <a:ext cx="690408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МОЛОДЕЖЬ БЕЛГОРОДСКОЙ ОБЛАСТИ В ВОЗРАСТЕ ОТ 21 ДО 30 ЛЕТ, ПРОЖИВАЮЩАЯ НА ТЕРРИТОРИИ  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Блок-схема: объединение 10"/>
          <p:cNvSpPr/>
          <p:nvPr/>
        </p:nvSpPr>
        <p:spPr>
          <a:xfrm>
            <a:off x="2185920" y="1623960"/>
            <a:ext cx="6715080" cy="378000"/>
          </a:xfrm>
          <a:prstGeom prst="flowChartMerg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КОНКУРСНЫЙ ОТБ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Скругленный прямоугольник 21"/>
          <p:cNvSpPr/>
          <p:nvPr/>
        </p:nvSpPr>
        <p:spPr>
          <a:xfrm>
            <a:off x="2298600" y="2216160"/>
            <a:ext cx="2089080" cy="105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представители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 муниципальных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бразовани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Скругленный прямоугольник 24"/>
          <p:cNvSpPr/>
          <p:nvPr/>
        </p:nvSpPr>
        <p:spPr>
          <a:xfrm>
            <a:off x="4524480" y="2241720"/>
            <a:ext cx="2038320" cy="106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представители общественных организаций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Скругленный прямоугольник 25"/>
          <p:cNvSpPr/>
          <p:nvPr/>
        </p:nvSpPr>
        <p:spPr>
          <a:xfrm>
            <a:off x="6732720" y="2251080"/>
            <a:ext cx="1942920" cy="105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иные представители молодежи области, прошедшие конкурсный отбо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07" name="Прямая со стрелкой 27"/>
          <p:cNvCxnSpPr/>
          <p:nvPr/>
        </p:nvCxnSpPr>
        <p:spPr>
          <a:xfrm flipH="1">
            <a:off x="3563280" y="1807920"/>
            <a:ext cx="292680" cy="3862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08" name="Прямая со стрелкой 30"/>
          <p:cNvCxnSpPr>
            <a:stCxn id="603" idx="2"/>
          </p:cNvCxnSpPr>
          <p:nvPr/>
        </p:nvCxnSpPr>
        <p:spPr>
          <a:xfrm flipH="1">
            <a:off x="5542920" y="2001600"/>
            <a:ext cx="1080" cy="2149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09" name="Прямая со стрелкой 32"/>
          <p:cNvCxnSpPr/>
          <p:nvPr/>
        </p:nvCxnSpPr>
        <p:spPr>
          <a:xfrm>
            <a:off x="7222680" y="1808280"/>
            <a:ext cx="374040" cy="43416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10" name="Правая фигурная скобка 38"/>
          <p:cNvSpPr/>
          <p:nvPr/>
        </p:nvSpPr>
        <p:spPr>
          <a:xfrm rot="5400000">
            <a:off x="5279040" y="340200"/>
            <a:ext cx="409320" cy="6265800"/>
          </a:xfrm>
          <a:custGeom>
            <a:avLst/>
            <a:gdLst>
              <a:gd name="textAreaLeft" fmla="*/ 0 w 409320"/>
              <a:gd name="textAreaRight" fmla="*/ 147600 w 409320"/>
              <a:gd name="textAreaTop" fmla="*/ 10440 h 6265800"/>
              <a:gd name="textAreaBottom" fmla="*/ 6255360 h 62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"/>
                  <a:pt x="10800" y="118"/>
                </a:cubicBezTo>
                <a:lnTo>
                  <a:pt x="10800" y="10682"/>
                </a:lnTo>
                <a:cubicBezTo>
                  <a:pt x="10800" y="10741"/>
                  <a:pt x="16200" y="10800"/>
                  <a:pt x="21600" y="10800"/>
                </a:cubicBezTo>
                <a:cubicBezTo>
                  <a:pt x="16200" y="10800"/>
                  <a:pt x="10800" y="10859"/>
                  <a:pt x="10800" y="10918"/>
                </a:cubicBezTo>
                <a:lnTo>
                  <a:pt x="10800" y="21482"/>
                </a:lnTo>
                <a:cubicBezTo>
                  <a:pt x="10800" y="2154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0000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Овал 39"/>
          <p:cNvSpPr/>
          <p:nvPr/>
        </p:nvSpPr>
        <p:spPr>
          <a:xfrm>
            <a:off x="4356000" y="4133880"/>
            <a:ext cx="2376720" cy="1216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МОЛОДЕЖНОЕ ПРАВИТЕЛЬСТВО БЕЛГОРОДСКОЙ ОБЛАСТИ </a:t>
            </a:r>
            <a:br>
              <a:rPr sz="1400"/>
            </a:br>
            <a:r>
              <a:rPr b="0" lang="en-US" sz="1400" spc="-1" strike="noStrike">
                <a:solidFill>
                  <a:srgbClr val="0d0d0d"/>
                </a:solidFill>
                <a:latin typeface="Franklin Gothic Medium"/>
              </a:rPr>
              <a:t>VIII </a:t>
            </a: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СОЗЫ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Левая фигурная скобка 77"/>
          <p:cNvSpPr/>
          <p:nvPr/>
        </p:nvSpPr>
        <p:spPr>
          <a:xfrm>
            <a:off x="1630440" y="1123920"/>
            <a:ext cx="216000" cy="232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322720"/>
              <a:gd name="textAreaBottom" fmla="*/ 2317320 h 232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Box 78"/>
          <p:cNvSpPr/>
          <p:nvPr/>
        </p:nvSpPr>
        <p:spPr>
          <a:xfrm>
            <a:off x="27000" y="2108160"/>
            <a:ext cx="167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ФОРМИР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СОСТА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Скругленный прямоугольник 83"/>
          <p:cNvSpPr/>
          <p:nvPr/>
        </p:nvSpPr>
        <p:spPr>
          <a:xfrm>
            <a:off x="1920960" y="4923000"/>
            <a:ext cx="2557440" cy="85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обучения для членов молодежного правительства 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Скругленный прямоугольник 99"/>
          <p:cNvSpPr/>
          <p:nvPr/>
        </p:nvSpPr>
        <p:spPr>
          <a:xfrm>
            <a:off x="1933560" y="3618000"/>
            <a:ext cx="2590920" cy="85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экспертно-аналитической деятельности членами молодежного правитель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Скругленный прямоугольник 100"/>
          <p:cNvSpPr/>
          <p:nvPr/>
        </p:nvSpPr>
        <p:spPr>
          <a:xfrm>
            <a:off x="6516720" y="3583080"/>
            <a:ext cx="2419200" cy="85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существление проектной деятельности членами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Скругленный прямоугольник 101"/>
          <p:cNvSpPr/>
          <p:nvPr/>
        </p:nvSpPr>
        <p:spPr>
          <a:xfrm>
            <a:off x="6585120" y="4960800"/>
            <a:ext cx="2390760" cy="816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стажировок в составе проектных групп органов исполнительной власти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8" name="Прямая со стрелкой 107"/>
          <p:cNvCxnSpPr/>
          <p:nvPr/>
        </p:nvCxnSpPr>
        <p:spPr>
          <a:xfrm flipV="1">
            <a:off x="4478400" y="5303520"/>
            <a:ext cx="614880" cy="3578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19" name="Прямая со стрелкой 117"/>
          <p:cNvCxnSpPr/>
          <p:nvPr/>
        </p:nvCxnSpPr>
        <p:spPr>
          <a:xfrm flipH="1" flipV="1">
            <a:off x="5992200" y="5303520"/>
            <a:ext cx="592920" cy="39744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20" name="Левая фигурная скобка 122"/>
          <p:cNvSpPr/>
          <p:nvPr/>
        </p:nvSpPr>
        <p:spPr>
          <a:xfrm>
            <a:off x="1630440" y="3598920"/>
            <a:ext cx="216000" cy="217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2178000"/>
              <a:gd name="textAreaBottom" fmla="*/ 2172600 h 217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"/>
                  <a:pt x="10800" y="178"/>
                </a:cubicBezTo>
                <a:lnTo>
                  <a:pt x="10800" y="10622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89"/>
                  <a:pt x="10800" y="10978"/>
                </a:cubicBezTo>
                <a:lnTo>
                  <a:pt x="10800" y="21422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123"/>
          <p:cNvSpPr/>
          <p:nvPr/>
        </p:nvSpPr>
        <p:spPr>
          <a:xfrm>
            <a:off x="33480" y="4437000"/>
            <a:ext cx="159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ОРГАНИЗАЦИЯ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Правая фигурная скобка 139"/>
          <p:cNvSpPr/>
          <p:nvPr/>
        </p:nvSpPr>
        <p:spPr>
          <a:xfrm rot="5400000">
            <a:off x="5276520" y="2350800"/>
            <a:ext cx="315720" cy="7034040"/>
          </a:xfrm>
          <a:custGeom>
            <a:avLst/>
            <a:gdLst>
              <a:gd name="textAreaLeft" fmla="*/ 0 w 315720"/>
              <a:gd name="textAreaRight" fmla="*/ 114120 w 315720"/>
              <a:gd name="textAreaTop" fmla="*/ 19080 h 7034040"/>
              <a:gd name="textAreaBottom" fmla="*/ 7014960 h 703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16200" y="10800"/>
                  <a:pt x="21600" y="10800"/>
                </a:cubicBezTo>
                <a:cubicBezTo>
                  <a:pt x="162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Скругленный прямоугольник 140"/>
          <p:cNvSpPr/>
          <p:nvPr/>
        </p:nvSpPr>
        <p:spPr>
          <a:xfrm>
            <a:off x="1846440" y="6016680"/>
            <a:ext cx="7089480" cy="663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284040" indent="-284040" algn="just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Medium"/>
                <a:ea typeface="Arial Unicode MS"/>
              </a:rPr>
              <a:t>Разработан и апробирован механизм отбора, подготовки и сопровождения социально-активной молодежи  Белгородской области, обеспечивающей включение не менее 25 молодых людей региона в кадровый резер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 algn="just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Левая фигурная скобка 141"/>
          <p:cNvSpPr/>
          <p:nvPr/>
        </p:nvSpPr>
        <p:spPr>
          <a:xfrm>
            <a:off x="1596960" y="6016680"/>
            <a:ext cx="216000" cy="6634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663480"/>
              <a:gd name="textAreaBottom" fmla="*/ 658080 h 6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3"/>
                  <a:pt x="10800" y="586"/>
                </a:cubicBezTo>
                <a:lnTo>
                  <a:pt x="10800" y="10214"/>
                </a:lnTo>
                <a:cubicBezTo>
                  <a:pt x="10800" y="10507"/>
                  <a:pt x="5400" y="10800"/>
                  <a:pt x="0" y="10800"/>
                </a:cubicBezTo>
                <a:cubicBezTo>
                  <a:pt x="5400" y="10800"/>
                  <a:pt x="10800" y="11093"/>
                  <a:pt x="10800" y="11386"/>
                </a:cubicBezTo>
                <a:lnTo>
                  <a:pt x="10800" y="21014"/>
                </a:lnTo>
                <a:cubicBezTo>
                  <a:pt x="10800" y="2130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142"/>
          <p:cNvSpPr/>
          <p:nvPr/>
        </p:nvSpPr>
        <p:spPr>
          <a:xfrm>
            <a:off x="274680" y="6145200"/>
            <a:ext cx="128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РЕЗУЛЬТА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26" name="Прямая со стрелкой 6"/>
          <p:cNvCxnSpPr/>
          <p:nvPr/>
        </p:nvCxnSpPr>
        <p:spPr>
          <a:xfrm flipH="1" flipV="1">
            <a:off x="4477680" y="3944160"/>
            <a:ext cx="525960" cy="2768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27" name="Прямая со стрелкой 19"/>
          <p:cNvCxnSpPr/>
          <p:nvPr/>
        </p:nvCxnSpPr>
        <p:spPr>
          <a:xfrm flipV="1">
            <a:off x="5940000" y="3975840"/>
            <a:ext cx="577080" cy="2120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1"/>
          <p:cNvSpPr/>
          <p:nvPr/>
        </p:nvSpPr>
        <p:spPr>
          <a:xfrm>
            <a:off x="304920" y="4636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304920" y="1197000"/>
            <a:ext cx="84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ОРГАНИЗАЦИОННАЯ СТРУКТУРА ДЕЯТЕЛЬНОСТ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Franklin Gothic Medium"/>
              </a:rPr>
              <a:t>МОЛОДЕЖНОГО ПРАВИТЕЛЬСТВА БЕЛГОРОДСКОЙ ОБЛАСТИ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Скругленный прямоугольник 1"/>
          <p:cNvSpPr/>
          <p:nvPr/>
        </p:nvSpPr>
        <p:spPr>
          <a:xfrm>
            <a:off x="4697280" y="1895400"/>
            <a:ext cx="3241800" cy="647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ЕДАТЕЛЬ МОЛОДЕЖНОГО ПРАВИТЕЛЬСТВА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Скругленный прямоугольник 5"/>
          <p:cNvSpPr/>
          <p:nvPr/>
        </p:nvSpPr>
        <p:spPr>
          <a:xfrm>
            <a:off x="3514680" y="2803680"/>
            <a:ext cx="1677960" cy="1395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ЗАМЕСТИТЕЛЬ ПРЕДСЕДАТЕЛЯ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Скругленный прямоугольник 15"/>
          <p:cNvSpPr/>
          <p:nvPr/>
        </p:nvSpPr>
        <p:spPr>
          <a:xfrm>
            <a:off x="3514680" y="4508640"/>
            <a:ext cx="1852560" cy="144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МУНИЦИПАЛЬНЫХ ОБРАЗОВАНИ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Скругленный прямоугольник 16"/>
          <p:cNvSpPr/>
          <p:nvPr/>
        </p:nvSpPr>
        <p:spPr>
          <a:xfrm>
            <a:off x="5508720" y="4525920"/>
            <a:ext cx="1692360" cy="1440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ОБЩЕСТВЕННЫХ ОРГАНИЗАЦИ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Скругленный прямоугольник 17"/>
          <p:cNvSpPr/>
          <p:nvPr/>
        </p:nvSpPr>
        <p:spPr>
          <a:xfrm>
            <a:off x="7319880" y="4541760"/>
            <a:ext cx="1692360" cy="1440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ИНЫЕ ПРЕДСТАВИТЕЛИ МОЛОДЕЖИ, ПРОШЕДШИЕ КОНКУРСНЫЙ ОТБ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5" name="Прямая со стрелкой 23"/>
          <p:cNvCxnSpPr/>
          <p:nvPr/>
        </p:nvCxnSpPr>
        <p:spPr>
          <a:xfrm flipH="1">
            <a:off x="4284360" y="2542680"/>
            <a:ext cx="504000" cy="2595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6" name="Прямая со стрелкой 29"/>
          <p:cNvCxnSpPr/>
          <p:nvPr/>
        </p:nvCxnSpPr>
        <p:spPr>
          <a:xfrm>
            <a:off x="7885080" y="2543040"/>
            <a:ext cx="38952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37" name="Прямая со стрелкой 41"/>
          <p:cNvCxnSpPr/>
          <p:nvPr/>
        </p:nvCxnSpPr>
        <p:spPr>
          <a:xfrm>
            <a:off x="4414320" y="4208400"/>
            <a:ext cx="108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38" name="Скругленный прямоугольник 45"/>
          <p:cNvSpPr/>
          <p:nvPr/>
        </p:nvSpPr>
        <p:spPr>
          <a:xfrm>
            <a:off x="5479920" y="2813040"/>
            <a:ext cx="1676520" cy="1395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ЗАМЕСТИТЕЛЬ ПРЕДСЕДАТЕЛЯ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Скругленный прямоугольник 49"/>
          <p:cNvSpPr/>
          <p:nvPr/>
        </p:nvSpPr>
        <p:spPr>
          <a:xfrm>
            <a:off x="7304040" y="2813040"/>
            <a:ext cx="1677960" cy="1395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ЗАМЕСТИТЕЛЬ ПРЕДСЕДАТЕЛЯ МОЛОДЕЖНОГО ПРАВИТЕЛЬСТВА ОБЛА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0" name="Прямая со стрелкой 50"/>
          <p:cNvCxnSpPr/>
          <p:nvPr/>
        </p:nvCxnSpPr>
        <p:spPr>
          <a:xfrm>
            <a:off x="6318000" y="2543040"/>
            <a:ext cx="108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41" name="Прямая со стрелкой 51"/>
          <p:cNvCxnSpPr/>
          <p:nvPr/>
        </p:nvCxnSpPr>
        <p:spPr>
          <a:xfrm>
            <a:off x="6356160" y="4198680"/>
            <a:ext cx="1080" cy="2703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42" name="Прямая со стрелкой 52"/>
          <p:cNvCxnSpPr/>
          <p:nvPr/>
        </p:nvCxnSpPr>
        <p:spPr>
          <a:xfrm>
            <a:off x="8187840" y="4221000"/>
            <a:ext cx="1080" cy="270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43" name="Левая фигурная скобка 53"/>
          <p:cNvSpPr/>
          <p:nvPr/>
        </p:nvSpPr>
        <p:spPr>
          <a:xfrm>
            <a:off x="3112920" y="1871640"/>
            <a:ext cx="398520" cy="4006800"/>
          </a:xfrm>
          <a:custGeom>
            <a:avLst/>
            <a:gdLst>
              <a:gd name="textAreaLeft" fmla="*/ 254520 w 398520"/>
              <a:gd name="textAreaRight" fmla="*/ 398880 w 398520"/>
              <a:gd name="textAreaTop" fmla="*/ 10080 h 4006800"/>
              <a:gd name="textAreaBottom" fmla="*/ 3996720 h 400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"/>
                  <a:pt x="10800" y="179"/>
                </a:cubicBezTo>
                <a:lnTo>
                  <a:pt x="10800" y="10621"/>
                </a:lnTo>
                <a:cubicBezTo>
                  <a:pt x="10800" y="10711"/>
                  <a:pt x="5400" y="10800"/>
                  <a:pt x="0" y="10800"/>
                </a:cubicBezTo>
                <a:cubicBezTo>
                  <a:pt x="5400" y="10800"/>
                  <a:pt x="10800" y="10890"/>
                  <a:pt x="10800" y="10979"/>
                </a:cubicBezTo>
                <a:lnTo>
                  <a:pt x="10800" y="21421"/>
                </a:lnTo>
                <a:cubicBezTo>
                  <a:pt x="10800" y="2151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Овал 46"/>
          <p:cNvSpPr/>
          <p:nvPr/>
        </p:nvSpPr>
        <p:spPr>
          <a:xfrm>
            <a:off x="858960" y="3324240"/>
            <a:ext cx="2232000" cy="110160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МОЛОДЕЖНОЕ ПРАВИТЕЛЬСТВО 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Скругленный прямоугольник 47"/>
          <p:cNvSpPr/>
          <p:nvPr/>
        </p:nvSpPr>
        <p:spPr>
          <a:xfrm>
            <a:off x="249120" y="1895400"/>
            <a:ext cx="2952720" cy="865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РГАНЫ ИСПОЛНИТЕЛЬНОЙ ВЛАСТИ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Скругленный прямоугольник 59"/>
          <p:cNvSpPr/>
          <p:nvPr/>
        </p:nvSpPr>
        <p:spPr>
          <a:xfrm>
            <a:off x="304920" y="5022720"/>
            <a:ext cx="2896920" cy="865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ПРАВЛЕНИЕ МОЛОДЕЖНОЙ ПОЛИТИКИ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 БЕЛГОРОД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Двойная стрелка вверх/вниз 48"/>
          <p:cNvSpPr/>
          <p:nvPr/>
        </p:nvSpPr>
        <p:spPr>
          <a:xfrm>
            <a:off x="1900080" y="2760840"/>
            <a:ext cx="138240" cy="563400"/>
          </a:xfrm>
          <a:prstGeom prst="upDownArrow">
            <a:avLst>
              <a:gd name="adj1" fmla="val 50000"/>
              <a:gd name="adj2" fmla="val 50227"/>
            </a:avLst>
          </a:prstGeom>
          <a:solidFill>
            <a:srgbClr val="ffffff"/>
          </a:solidFill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Стрелка вверх 54"/>
          <p:cNvSpPr/>
          <p:nvPr/>
        </p:nvSpPr>
        <p:spPr>
          <a:xfrm>
            <a:off x="1900080" y="4425840"/>
            <a:ext cx="138240" cy="596880"/>
          </a:xfrm>
          <a:prstGeom prst="upArrow">
            <a:avLst>
              <a:gd name="adj1" fmla="val 50000"/>
              <a:gd name="adj2" fmla="val 50133"/>
            </a:avLst>
          </a:pr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Box 55"/>
          <p:cNvSpPr/>
          <p:nvPr/>
        </p:nvSpPr>
        <p:spPr>
          <a:xfrm>
            <a:off x="249120" y="4425840"/>
            <a:ext cx="153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Координация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Box 60"/>
          <p:cNvSpPr/>
          <p:nvPr/>
        </p:nvSpPr>
        <p:spPr>
          <a:xfrm>
            <a:off x="249120" y="2813040"/>
            <a:ext cx="14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</a:rPr>
              <a:t>Прохождение стажировок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1"/>
          <p:cNvSpPr/>
          <p:nvPr/>
        </p:nvSpPr>
        <p:spPr>
          <a:xfrm>
            <a:off x="304920" y="46368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2200"/>
            </a:br>
            <a:r>
              <a:rPr b="0" lang="ru-RU" sz="22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Box 2"/>
          <p:cNvSpPr/>
          <p:nvPr/>
        </p:nvSpPr>
        <p:spPr>
          <a:xfrm>
            <a:off x="539640" y="1197000"/>
            <a:ext cx="799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Franklin Gothic Medium"/>
              </a:rPr>
              <a:t>АЛГОРИТМ ОРГАНИЗАЦИИ ОБРАЗОВАТЕЛЬНОЙ ДЕЯТЕЛЬНОСТИ ДЛЯ </a:t>
            </a:r>
            <a:br>
              <a:rPr sz="1600"/>
            </a:br>
            <a:r>
              <a:rPr b="0" lang="ru-RU" sz="1600" spc="-1" strike="noStrike">
                <a:solidFill>
                  <a:srgbClr val="0d0d0d"/>
                </a:solidFill>
                <a:latin typeface="Franklin Gothic Medium"/>
              </a:rPr>
              <a:t>ЧЛЕНОВ МОЛОДЕЖНОГО ПРАВИТЕЛЬСТВА БЕЛГОРОДСКОЙ ОБЛА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Скругленный прямоугольник 3"/>
          <p:cNvSpPr/>
          <p:nvPr/>
        </p:nvSpPr>
        <p:spPr>
          <a:xfrm>
            <a:off x="1979640" y="1781280"/>
            <a:ext cx="504036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ОСТАВЛЕНИЕ КАРТ КОМПЕТЕНЦИЙ ДЛЯ КАЖДОГО ЧЛЕНА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МОЛОДЁЖНОГО ПРАВИТЕЛЬСТВА БЕЛГОРОДСКОЙ ОБЛАСТИ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Скругленный прямоугольник 26"/>
          <p:cNvSpPr/>
          <p:nvPr/>
        </p:nvSpPr>
        <p:spPr>
          <a:xfrm>
            <a:off x="1979640" y="2492280"/>
            <a:ext cx="5040360" cy="567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ОСТАВЛЕНИЕ ОБРАЗОВАТЕЛЬНЫХ ПРОГРАММ,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 УЧЕТОМ РАЗРАБОТАННЫХ КАРТ КОМПЕТЕН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Скругленный прямоугольник 28"/>
          <p:cNvSpPr/>
          <p:nvPr/>
        </p:nvSpPr>
        <p:spPr>
          <a:xfrm>
            <a:off x="1008000" y="3235320"/>
            <a:ext cx="2376720" cy="55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ТЕОРЕТИЧЕСКИЙ БЛ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Скругленный прямоугольник 30"/>
          <p:cNvSpPr/>
          <p:nvPr/>
        </p:nvSpPr>
        <p:spPr>
          <a:xfrm>
            <a:off x="5435640" y="3218040"/>
            <a:ext cx="25210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АКТИЧЕСКИЙ БЛ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Скругленный прямоугольник 7"/>
          <p:cNvSpPr/>
          <p:nvPr/>
        </p:nvSpPr>
        <p:spPr>
          <a:xfrm>
            <a:off x="971640" y="3922560"/>
            <a:ext cx="2448000" cy="5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ВЕДЕНИЕ «ВХОДНОГО ТЕСТИРОВ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Скругленный прямоугольник 8"/>
          <p:cNvSpPr/>
          <p:nvPr/>
        </p:nvSpPr>
        <p:spPr>
          <a:xfrm>
            <a:off x="971640" y="4581360"/>
            <a:ext cx="244800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ВЕДЕНИЕ </a:t>
            </a:r>
            <a:br>
              <a:rPr sz="1400"/>
            </a:b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БРАЗОВАТЕЛЬНОЙ ПРОГРАММ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Скругленный прямоугольник 10"/>
          <p:cNvSpPr/>
          <p:nvPr/>
        </p:nvSpPr>
        <p:spPr>
          <a:xfrm>
            <a:off x="4538520" y="3922560"/>
            <a:ext cx="168912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ЭКСПЕРТНО-АНАЛИТИЧЕСКАЯ ДЕЯТЕЛЬ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Скругленный прямоугольник 11"/>
          <p:cNvSpPr/>
          <p:nvPr/>
        </p:nvSpPr>
        <p:spPr>
          <a:xfrm>
            <a:off x="971640" y="5445000"/>
            <a:ext cx="2448000" cy="514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ВЕДЕНИЕ «ВЫХОДНОГО ТЕСТИРОВА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Скругленный прямоугольник 12"/>
          <p:cNvSpPr/>
          <p:nvPr/>
        </p:nvSpPr>
        <p:spPr>
          <a:xfrm>
            <a:off x="5148360" y="4879800"/>
            <a:ext cx="1547640" cy="822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ЕКТНАЯ ДЕЯТЕЛЬ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Скругленный прямоугольник 13"/>
          <p:cNvSpPr/>
          <p:nvPr/>
        </p:nvSpPr>
        <p:spPr>
          <a:xfrm>
            <a:off x="7596360" y="3922560"/>
            <a:ext cx="1368360" cy="80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СТАЖИРОВ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Скругленный прямоугольник 14"/>
          <p:cNvSpPr/>
          <p:nvPr/>
        </p:nvSpPr>
        <p:spPr>
          <a:xfrm>
            <a:off x="6912000" y="4869000"/>
            <a:ext cx="1476360" cy="83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РАБОТА С КЕЙС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4" name="Прямая со стрелкой 4"/>
          <p:cNvCxnSpPr>
            <a:stCxn id="653" idx="2"/>
            <a:endCxn id="654" idx="0"/>
          </p:cNvCxnSpPr>
          <p:nvPr/>
        </p:nvCxnSpPr>
        <p:spPr>
          <a:xfrm>
            <a:off x="4500360" y="2349000"/>
            <a:ext cx="1080" cy="143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5" name="Прямая со стрелкой 17"/>
          <p:cNvCxnSpPr/>
          <p:nvPr/>
        </p:nvCxnSpPr>
        <p:spPr>
          <a:xfrm>
            <a:off x="2230200" y="3092040"/>
            <a:ext cx="1080" cy="1436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6" name="Прямая со стрелкой 18"/>
          <p:cNvCxnSpPr/>
          <p:nvPr/>
        </p:nvCxnSpPr>
        <p:spPr>
          <a:xfrm>
            <a:off x="6803640" y="3058920"/>
            <a:ext cx="1080" cy="1447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667" name="Прямая со стрелкой 19"/>
          <p:cNvCxnSpPr/>
          <p:nvPr/>
        </p:nvCxnSpPr>
        <p:spPr>
          <a:xfrm>
            <a:off x="2230200" y="3789000"/>
            <a:ext cx="1080" cy="1436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68" name="Прямая со стрелкой 20"/>
          <p:cNvCxnSpPr/>
          <p:nvPr/>
        </p:nvCxnSpPr>
        <p:spPr>
          <a:xfrm>
            <a:off x="2230200" y="4436640"/>
            <a:ext cx="1080" cy="14364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69" name="Прямая со стрелкой 21"/>
          <p:cNvCxnSpPr/>
          <p:nvPr/>
        </p:nvCxnSpPr>
        <p:spPr>
          <a:xfrm>
            <a:off x="2230200" y="5300280"/>
            <a:ext cx="1080" cy="14472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70" name="Прямая со стрелкой 22"/>
          <p:cNvCxnSpPr/>
          <p:nvPr/>
        </p:nvCxnSpPr>
        <p:spPr>
          <a:xfrm>
            <a:off x="5455800" y="3768480"/>
            <a:ext cx="1080" cy="144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1" name="Прямая со стрелкой 23"/>
          <p:cNvCxnSpPr/>
          <p:nvPr/>
        </p:nvCxnSpPr>
        <p:spPr>
          <a:xfrm>
            <a:off x="7957800" y="3754080"/>
            <a:ext cx="1080" cy="143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2" name="Прямая со стрелкой 24"/>
          <p:cNvCxnSpPr/>
          <p:nvPr/>
        </p:nvCxnSpPr>
        <p:spPr>
          <a:xfrm>
            <a:off x="6372000" y="3787920"/>
            <a:ext cx="1080" cy="1110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3" name="Прямая со стрелкой 27"/>
          <p:cNvCxnSpPr/>
          <p:nvPr/>
        </p:nvCxnSpPr>
        <p:spPr>
          <a:xfrm>
            <a:off x="7164000" y="3787920"/>
            <a:ext cx="1080" cy="1110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74" name="Скругленный прямоугольник 29"/>
          <p:cNvSpPr/>
          <p:nvPr/>
        </p:nvSpPr>
        <p:spPr>
          <a:xfrm>
            <a:off x="304920" y="6165720"/>
            <a:ext cx="154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СПЕШ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Скругленный прямоугольник 31"/>
          <p:cNvSpPr/>
          <p:nvPr/>
        </p:nvSpPr>
        <p:spPr>
          <a:xfrm>
            <a:off x="2305080" y="6165720"/>
            <a:ext cx="1547640" cy="468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НЕУДАЧН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6" name="Прямая со стрелкой 32"/>
          <p:cNvCxnSpPr/>
          <p:nvPr/>
        </p:nvCxnSpPr>
        <p:spPr>
          <a:xfrm>
            <a:off x="1077480" y="5959080"/>
            <a:ext cx="3960" cy="2070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677" name="Прямая со стрелкой 33"/>
          <p:cNvCxnSpPr/>
          <p:nvPr/>
        </p:nvCxnSpPr>
        <p:spPr>
          <a:xfrm>
            <a:off x="3276720" y="5959080"/>
            <a:ext cx="2160" cy="2070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78" name="Прямая соединительная линия 35"/>
          <p:cNvSpPr/>
          <p:nvPr/>
        </p:nvSpPr>
        <p:spPr>
          <a:xfrm>
            <a:off x="3852720" y="6399360"/>
            <a:ext cx="3797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9" name="Прямая со стрелкой 37"/>
          <p:cNvCxnSpPr>
            <a:endCxn id="663" idx="2"/>
          </p:cNvCxnSpPr>
          <p:nvPr/>
        </p:nvCxnSpPr>
        <p:spPr>
          <a:xfrm flipV="1">
            <a:off x="7649640" y="5702040"/>
            <a:ext cx="1080" cy="6976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80" name="TextBox 38"/>
          <p:cNvSpPr/>
          <p:nvPr/>
        </p:nvSpPr>
        <p:spPr>
          <a:xfrm>
            <a:off x="4167360" y="5877000"/>
            <a:ext cx="316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ВЕЛИЧЕНИЕ ОБЪЕМА ЗАДАНИЙ </a:t>
            </a:r>
            <a:br>
              <a:rPr sz="1200"/>
            </a:br>
            <a:r>
              <a:rPr b="0" lang="ru-RU" sz="12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О  ТЕМАТИКЕ ОБРАЗОВАТЕЛЬНОГО БЛО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2"/>
          <p:cNvSpPr/>
          <p:nvPr/>
        </p:nvSpPr>
        <p:spPr>
          <a:xfrm>
            <a:off x="611280" y="1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Прямоугольник 3"/>
          <p:cNvSpPr/>
          <p:nvPr/>
        </p:nvSpPr>
        <p:spPr>
          <a:xfrm>
            <a:off x="1187280" y="1125360"/>
            <a:ext cx="69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АЛГОРИТМ ОРГАНИЗАЦИИ СТАЖИРОВОК ДЛЯ </a:t>
            </a:r>
            <a:br>
              <a:rPr sz="1600"/>
            </a:br>
            <a:r>
              <a:rPr b="0" lang="ru-RU" sz="16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ЧЛЕНОВ МОЛОДЕЖНОГО ПРАВИТЕЛЬСТВА БЕЛГОРОДСКОЙ ОБЛА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Скругленный прямоугольник 4"/>
          <p:cNvSpPr/>
          <p:nvPr/>
        </p:nvSpPr>
        <p:spPr>
          <a:xfrm>
            <a:off x="5940360" y="5872320"/>
            <a:ext cx="2933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РГАНЫ ИСПОЛНИТЕЛЬНОЙ ВЛАСТИ РЕГИОНАЛЬНОГО УРОВН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Скругленный прямоугольник 5"/>
          <p:cNvSpPr/>
          <p:nvPr/>
        </p:nvSpPr>
        <p:spPr>
          <a:xfrm>
            <a:off x="426960" y="5872320"/>
            <a:ext cx="30974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ОРАНЫ ИСПОЛНИТЕЛЬНОЙ ВЛАСТИ МУНИЦИПАЛЬНОГО УРОВНЯ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Скругленный прямоугольник 8"/>
          <p:cNvSpPr/>
          <p:nvPr/>
        </p:nvSpPr>
        <p:spPr>
          <a:xfrm>
            <a:off x="5867280" y="1773360"/>
            <a:ext cx="3078360" cy="566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УПРАВЛЕНИЕ МОЛОДЕЖНОЙ ПОЛИТИКИ БЕЛГОРОДСКО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Скругленный прямоугольник 15"/>
          <p:cNvSpPr/>
          <p:nvPr/>
        </p:nvSpPr>
        <p:spPr>
          <a:xfrm>
            <a:off x="1835280" y="3019320"/>
            <a:ext cx="5160960" cy="1513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МОЛОДЕЖНОЕ ПРАВИТЕЛЬСТВО БЕЛГОРОДСКО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Скругленный прямоугольник 16"/>
          <p:cNvSpPr/>
          <p:nvPr/>
        </p:nvSpPr>
        <p:spPr>
          <a:xfrm>
            <a:off x="1841400" y="3581280"/>
            <a:ext cx="1683000" cy="936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МУНИЦИПАЛЬНЫХ ОБРАЗОВАНИ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Скругленный прямоугольник 18"/>
          <p:cNvSpPr/>
          <p:nvPr/>
        </p:nvSpPr>
        <p:spPr>
          <a:xfrm>
            <a:off x="3524400" y="3619440"/>
            <a:ext cx="1690560" cy="9129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ОБЩЕСТВЕННЫХ ОРГАНИЗАЦИ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Скругленный прямоугольник 19"/>
          <p:cNvSpPr/>
          <p:nvPr/>
        </p:nvSpPr>
        <p:spPr>
          <a:xfrm>
            <a:off x="5227560" y="3624120"/>
            <a:ext cx="1768680" cy="903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СТАВИТЕЛИ ОБЩЕСТВЕННЫХ ОРГАНИЗАЦИЙ ОБЛАСТИ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0" name="Прямая со стрелкой 21"/>
          <p:cNvCxnSpPr>
            <a:stCxn id="687" idx="2"/>
          </p:cNvCxnSpPr>
          <p:nvPr/>
        </p:nvCxnSpPr>
        <p:spPr>
          <a:xfrm>
            <a:off x="2682360" y="4518000"/>
            <a:ext cx="1080" cy="13550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1" name="TextBox 24"/>
          <p:cNvSpPr/>
          <p:nvPr/>
        </p:nvSpPr>
        <p:spPr>
          <a:xfrm>
            <a:off x="2633760" y="4940280"/>
            <a:ext cx="1753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ХОЖДЕНИЕ СТАЖИРОВК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2" name="Прямая со стрелкой 26"/>
          <p:cNvCxnSpPr/>
          <p:nvPr/>
        </p:nvCxnSpPr>
        <p:spPr>
          <a:xfrm flipV="1">
            <a:off x="2268000" y="4527000"/>
            <a:ext cx="1080" cy="13546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693" name="TextBox 28"/>
          <p:cNvSpPr/>
          <p:nvPr/>
        </p:nvSpPr>
        <p:spPr>
          <a:xfrm>
            <a:off x="258840" y="4581360"/>
            <a:ext cx="2009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ОСТАВЛЕНИЕ МЕСТ СТАЖИРОВК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НАЗНАЧЕНИЕ КУРАТОР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КЛЮЧЕНИЕ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 КОМАНДУ ПРОЕКТ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Прямая со стрелкой 31"/>
          <p:cNvCxnSpPr/>
          <p:nvPr/>
        </p:nvCxnSpPr>
        <p:spPr>
          <a:xfrm>
            <a:off x="6352920" y="4527720"/>
            <a:ext cx="1080" cy="13737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5" name="TextBox 32"/>
          <p:cNvSpPr/>
          <p:nvPr/>
        </p:nvSpPr>
        <p:spPr>
          <a:xfrm>
            <a:off x="4695840" y="4867200"/>
            <a:ext cx="172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ОХОЖДЕНИЕ СТАЖИРОВК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Прямая соединительная линия 34"/>
          <p:cNvSpPr/>
          <p:nvPr/>
        </p:nvSpPr>
        <p:spPr>
          <a:xfrm>
            <a:off x="4608360" y="4532400"/>
            <a:ext cx="0" cy="159552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7" name="Прямая со стрелкой 36"/>
          <p:cNvCxnSpPr>
            <a:endCxn id="683" idx="1"/>
          </p:cNvCxnSpPr>
          <p:nvPr/>
        </p:nvCxnSpPr>
        <p:spPr>
          <a:xfrm>
            <a:off x="4608360" y="6127560"/>
            <a:ext cx="133272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698" name="Прямая соединительная линия 40"/>
          <p:cNvSpPr/>
          <p:nvPr/>
        </p:nvSpPr>
        <p:spPr>
          <a:xfrm flipV="1">
            <a:off x="6996240" y="4797360"/>
            <a:ext cx="0" cy="107496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Прямая соединительная линия 43"/>
          <p:cNvSpPr/>
          <p:nvPr/>
        </p:nvSpPr>
        <p:spPr>
          <a:xfrm>
            <a:off x="4932360" y="4797360"/>
            <a:ext cx="206388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0" name="Прямая со стрелкой 45"/>
          <p:cNvCxnSpPr/>
          <p:nvPr/>
        </p:nvCxnSpPr>
        <p:spPr>
          <a:xfrm flipV="1">
            <a:off x="4932000" y="4532040"/>
            <a:ext cx="1080" cy="26568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701" name="Прямая соединительная линия 46"/>
          <p:cNvSpPr/>
          <p:nvPr/>
        </p:nvSpPr>
        <p:spPr>
          <a:xfrm flipV="1">
            <a:off x="7236000" y="4094280"/>
            <a:ext cx="0" cy="180648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2" name="Прямая со стрелкой 52"/>
          <p:cNvCxnSpPr/>
          <p:nvPr/>
        </p:nvCxnSpPr>
        <p:spPr>
          <a:xfrm flipH="1" flipV="1">
            <a:off x="6995880" y="4074480"/>
            <a:ext cx="240480" cy="19800"/>
          </a:xfrm>
          <a:prstGeom prst="straightConnector1">
            <a:avLst/>
          </a:prstGeom>
          <a:ln w="255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703" name="Прямая соединительная линия 57"/>
          <p:cNvSpPr/>
          <p:nvPr/>
        </p:nvSpPr>
        <p:spPr>
          <a:xfrm flipH="1">
            <a:off x="2922480" y="2055960"/>
            <a:ext cx="2944800" cy="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4" name="Прямая со стрелкой 59"/>
          <p:cNvCxnSpPr/>
          <p:nvPr/>
        </p:nvCxnSpPr>
        <p:spPr>
          <a:xfrm>
            <a:off x="2922120" y="2055960"/>
            <a:ext cx="1080" cy="96408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705" name="Прямая со стрелкой 62"/>
          <p:cNvCxnSpPr/>
          <p:nvPr/>
        </p:nvCxnSpPr>
        <p:spPr>
          <a:xfrm flipV="1">
            <a:off x="5940000" y="2339280"/>
            <a:ext cx="1080" cy="6800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06" name="TextBox 176127"/>
          <p:cNvSpPr/>
          <p:nvPr/>
        </p:nvSpPr>
        <p:spPr>
          <a:xfrm>
            <a:off x="5832360" y="2446200"/>
            <a:ext cx="225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ОСТАВЛЕНИЕ ОТЧЁТНОСТИ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Box 176130"/>
          <p:cNvSpPr/>
          <p:nvPr/>
        </p:nvSpPr>
        <p:spPr>
          <a:xfrm>
            <a:off x="179280" y="1884240"/>
            <a:ext cx="2880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РАЗРАБОТКА КРИТЕРИЕВ ЭФФЕКТИВНОСТИ ПРОХОЖДЕНИЯ СТАЖИРОВОК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КОНТРОЛЬ КАЧЕСТВА ПРОХОЖДЕНИЯ СТАЖИРОВОК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Box 29"/>
          <p:cNvSpPr/>
          <p:nvPr/>
        </p:nvSpPr>
        <p:spPr>
          <a:xfrm>
            <a:off x="7236000" y="4541760"/>
            <a:ext cx="2009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ПРЕДОСТАВЛЕНИЕ МЕСТ СТАЖИРОВКИ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НАЗНАЧЕНИЕ КУРАТОРА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КЛЮЧЕНИЕ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300" spc="-1" strike="noStrike">
                <a:solidFill>
                  <a:srgbClr val="0d0d0d"/>
                </a:solidFill>
                <a:latin typeface="Franklin Gothic Medium"/>
                <a:ea typeface="Arial"/>
              </a:rPr>
              <a:t>В КОМАНДУ ПРОЕКТА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1"/>
          <p:cNvSpPr/>
          <p:nvPr/>
        </p:nvSpPr>
        <p:spPr>
          <a:xfrm>
            <a:off x="304920" y="189000"/>
            <a:ext cx="8686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464646"/>
                </a:solidFill>
                <a:latin typeface="Franklin Gothic Medium"/>
              </a:rPr>
              <a:t>ОСНОВНЫЕ БЛОКИ РАБОТ ПРОЕК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79200" y="692280"/>
          <a:ext cx="8912520" cy="5830920"/>
        </p:xfrm>
        <a:graphic>
          <a:graphicData uri="http://schemas.openxmlformats.org/drawingml/2006/table">
            <a:tbl>
              <a:tblPr/>
              <a:tblGrid>
                <a:gridCol w="382680"/>
                <a:gridCol w="1673280"/>
                <a:gridCol w="1321560"/>
                <a:gridCol w="954720"/>
                <a:gridCol w="945720"/>
                <a:gridCol w="226800"/>
                <a:gridCol w="227160"/>
                <a:gridCol w="226800"/>
                <a:gridCol w="225720"/>
                <a:gridCol w="226800"/>
                <a:gridCol w="227160"/>
                <a:gridCol w="226800"/>
                <a:gridCol w="227160"/>
                <a:gridCol w="227160"/>
                <a:gridCol w="226800"/>
                <a:gridCol w="228600"/>
                <a:gridCol w="216000"/>
                <a:gridCol w="244440"/>
                <a:gridCol w="226800"/>
                <a:gridCol w="227160"/>
                <a:gridCol w="223200"/>
              </a:tblGrid>
              <a:tr h="270720"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№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Длительность,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Начало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конча-ни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3200" bIns="432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0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6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8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Разработка и утверждение НПА, регламентирующих создание и функционирование молодежного правительств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7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.12.20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8.02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44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Проведение конкурса по формированию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VIII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состава молодежного правительства Белгородской области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57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0.01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24.04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3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и проведение командобразующих мероприятий для членов молодежного правительств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85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5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9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4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Организация стажировок для членов молодежного правительства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12 дн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01.08.20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Franklin Gothic Book"/>
                          <a:ea typeface="Arial"/>
                        </a:rPr>
                        <a:t>15.01.20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3200" bIns="432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cp:keywords/>
  <dc:language>en-US</dc:language>
  <cp:lastModifiedBy>Анна Немцева</cp:lastModifiedBy>
  <cp:lastPrinted>2017-01-15T15:34:20Z</cp:lastPrinted>
  <dcterms:modified xsi:type="dcterms:W3CDTF">2017-01-27T08:55:42Z</dcterms:modified>
  <cp:revision>912</cp:revision>
  <dc:subject/>
  <dc:title>Слайд 1</dc:title>
</cp:coreProperties>
</file>